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4DA-84D2-4E47-8FAF-EA0AFED8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CA2-34D6-4453-A101-7E12EA22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B2BE5-AAB4-4D03-ACCA-71D4E3D3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D855A-E2F1-4F02-BA34-84A1F98C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B64ED-3BD1-476C-A8AF-7AE672D9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E49DF-CCCF-461E-AC93-30812F35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A49E1-7E8A-4640-A20A-CA52F8CE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A8C09-41BC-42D2-A312-6CDA8BC9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F8B89-466D-4B26-A78F-A6091060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0E991-672E-4BEA-A8F9-D8F55BD1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A6A43-5F76-4C36-ABCF-B1357CCA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4843C-B8DE-4D72-A1FB-DFCB851F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BC2-7520-4D6C-8DB9-D4E657E4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DDA73-68A2-479B-A76C-45FD356A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C25F8-AEC9-48E2-8B76-FC32E893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16CD1-F65A-44F2-88A5-1E33A53C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C722E-3811-41BB-8BAB-2F251E38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6098F-F977-4542-A01F-53DF3C0C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10584-11F7-47B0-A669-53205C33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7CD21-546B-404C-BAF3-3899703F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139BF-A801-4856-91DE-F027AAC7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0F4E4-E3D9-4079-B407-37093AB3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75992-E64D-4DA1-949B-4141BD4B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CA5-FFE9-4F3D-892E-5C45458E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B9AC5-0E08-4531-BB2D-D3BABAB6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EF709-81EA-4905-A969-2F7F52D8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662B1-8DC0-41D9-8C8D-FCC07D7A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437C6-127F-48F6-B4E2-D205B334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6EA03-6D15-4AE9-9787-4D8AB79A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15BDD-A9CD-409C-9F88-CF16EFEB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F522D-99D5-479F-BA25-E9569615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3BD7D-5568-491D-B4F2-33F75C0B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A8ACD-2264-4577-979B-E9FADCC3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48E5E-001B-45C9-A91E-505B2128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F3C3-4C09-45B6-83BB-A6C4CFDD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1C0C1-BA4D-4E72-8302-2D657F7D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191F5-5C28-4809-8D4B-98C8AFD5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7BBE1-962B-4F76-9A91-2DDF3730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9C37F-7895-4C54-B8BB-3902A94A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5B27D-7A11-43F9-A24D-3560643A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FE996-DD59-4B26-8973-56026471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38575-5C96-4D78-A6B1-815CE82A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47940-46CA-4B4B-93AC-A03346CE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4E5A6-0ACF-4EA4-A20F-790884B6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C3B81-9EE4-4ED4-9852-FC3E071A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25FF-0FCE-495B-89F0-4A289306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CC6AA-D8C2-49C8-9938-DBEB9205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F754E-3756-4F82-AB38-BAB07DE9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2A9A4-49E7-4AAC-B950-28F1321D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8444F-BBEA-4F77-B6C4-86C6FD9F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A8EC5-88EB-416F-9DB6-A7DD9A8F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FBD95-7A7A-4F4E-9D22-3F10A9BD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09AFC-D9A1-40E4-8B36-7C82B34C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7B738-B975-4644-9948-66C677DD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59745-708D-4D2E-805F-F5BD66E2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79E3E-656E-4D41-81F9-8660E0E1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E744-1785-4FEE-80DF-D1E3AA35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F7EBC-2BCD-46D2-AA75-D8E7D9F9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91B97-4ED5-414A-8709-6C31B943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DFB8A-A223-4ECF-A469-96F49D49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50E27-A9AD-43F6-9907-12516507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67EC4-790C-443F-84C5-31A6F2F4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FC761-BB35-4FD5-8557-3C6F1D97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4A6B2-3C90-4C74-BF65-DAEE4D85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24C34-FB5A-4085-8D98-AD213E98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71467-524C-4B83-8FE5-4C0038F0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8081F-84B7-4B3C-967B-81A34380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C902-590A-4162-9346-1105F142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F0728-56E7-4CF8-9057-4D8F7407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B1E1C1-FEF1-47D1-B6B0-E8A5F714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FD050-5421-4F8C-B2AB-FDE45B1D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4E8B8-A403-469D-81C1-A4FD74C3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5403E-3DFC-4989-9881-CA9379F4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08A03-3AAC-498D-9F2A-6D39D367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CC1A3-C6B1-4F61-B707-E5C4DA92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E8C9A-65D4-4ABF-BEF9-723F58CF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45631-E8CF-470F-82D1-30E547D0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4F7199-3EDD-4B86-9D43-D01A3807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271A-1656-4B07-B00B-D856F00C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1EA37-934A-4EE7-BA7B-13A3323F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6B5C71-19A4-43F3-B7A0-17ECBFFD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73AA5-58D5-4AF7-9EAF-DFAEC66D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1D2A9-2394-4E31-A5B5-067ACE83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017C38-EB12-4978-B10B-F71842D6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5BC9B-DED9-4FB0-A5C6-56AFC0F2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F3FD7-3941-466F-85AA-107A52BE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C90A0-005A-4D3C-B4C6-99FA9CCF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E9B8C2-066C-418D-969C-A8087C99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4E7E2-1744-4007-8DEE-0BB5F8C9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AF17-1395-4B46-BCFE-B4B6C6CF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BC225-A70B-41A2-993C-552EA218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DF7D1-CA3C-442F-A653-753684C4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3DC31-812D-40D5-9E33-CE2A16FA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2EA65-AD02-4C10-80BB-643EB3DF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229E9-1A07-45D0-A641-06478B7B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CA8D55-D630-43C7-A53D-85152D93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14F5E-4A49-4B64-A3EF-B00D3F4A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6703A1-F9D7-4AA4-B3A9-940C95A5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D678C7-DE43-4B95-A01C-B63B4821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6CCC47-2F41-4F21-BCC7-8A038696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5414-FB86-47E8-962F-76B7E9FE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06E48-8D8A-4ECE-A436-920802B7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4417C6-0293-4AD5-8C1C-7ABA7768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6D324C-905E-4612-B1B9-3DD3946B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ECE57-D047-4E76-9D26-A1ABE28A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112CE-C8A9-48DA-8148-7EAD9788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B29E83-2AF0-447A-AB22-F6A57EB7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54356-FC41-41E9-91EE-3E451E76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C905C7-5D9F-4AC1-8DDA-8B4EAAB7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B8959A-DE4C-4830-A6E7-91CEFA3E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114FB3-D8F9-467F-9EC5-49CF4E6B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E98-290A-4215-8CE3-8CCD5E09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049F-C027-4EDE-AE55-28BA63D6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F8910-D244-4F3B-ACC3-4D8BFDEE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2161CF-603C-401F-9395-16F81958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65888-8E80-40CE-8207-042C2772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FBEF67-C6EE-46E4-A163-CCDE59DE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E29129-AA39-49FB-9888-50AB6FA4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EE7C1-4684-49C7-85F5-7DA4D3F7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A6473A-751B-46C8-8FB7-AF9467F6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775911-A8F3-45F6-B152-3CA0C9FB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67DBB3-A701-458C-A427-1ABB3DF4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59F310-328E-4B7E-B821-04858E48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4022-2D63-493B-A755-E94F005F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7F02F8-C7BA-4148-A07A-91E11022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FC63BB-3D3D-4942-B9B2-9AD606D1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94293-1C5E-4117-AEF6-064B035D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2917A-082D-4CCE-B82A-98845AE2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2ABC7F-70E9-4897-B34D-2C34C3BA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1F6E21-0DA6-4A3F-B0BE-DCCECFB3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7F403F-B98D-45C5-8ABE-FF1683E1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C690FE-6C42-427F-9490-C7DF4717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F4A928-056A-400D-93EB-DE997288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8583E7-706A-4C4E-A101-D143F2A0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2C02-FC28-4C30-B9D4-EB59D908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56FC37-782C-4F95-ABDD-246AAE6A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3CC9AC-0C29-435B-B0FF-92ECB82B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5D9E10-7C9C-4304-8BEF-74DB27AB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FEED76-9747-4E10-93A4-D7F8143C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DA7A5D-8FF2-432B-87F1-CB88A6C4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7A6BFB-9463-4BC8-9029-FAF714CC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7C407D-E78E-4CA0-8B9A-6FE02E40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D4A68A-7EA9-4A9D-9079-D8B48548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3EBA88-EE46-4D47-93CC-7206F02F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BA2AEA-8A82-4CEA-B8E1-6C79EA3F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4647-EE67-4AD4-827D-22C6149F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4D7D3C-E54D-462C-BE63-2F2A9A0A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3408CF-64ED-47A4-9304-F611A741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B3922B-AA25-4D2E-AFA9-87BF8E17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819B06-CB8E-4D30-94FC-7ED7C482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936455-B948-4B60-81DC-E132B25F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E651EF-BD0C-47E2-882D-10D4EF7A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52DD49-1094-493A-9032-C41C0823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16C173-1F10-4E44-8EBF-38F16F67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88FB8C-A12B-4559-9ACA-66D4E425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4DAC54-F7F6-45D3-87FC-4AB8FC75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751B-DEEF-4C86-9C87-5449BEA2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5C5A2D-CF80-42B8-A6C5-B492B862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46B27C-F94C-4FA6-94CB-D9B1D6E8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7E1E89-A641-41F0-914F-736405FC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6A1235-9917-4021-818F-A9020502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E25C20-D8CD-4FF0-B7B1-4DBC26CF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7B4A4D-8652-45EA-AC63-F1E9A9AA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2BEAD9-0136-446C-B1B3-AE7D8754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9A14C8-59A0-42AB-816D-5E93062E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5BB600-1174-4EF0-AE99-2A6895B8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45717F-67C6-4726-9559-5387B3EC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FDEDB-892D-4201-A9D1-EB5BABFE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61396-F557-4DDB-BB12-D2CE53E6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FBFC5-61EE-4D71-BF3F-76DD4102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4BAAD0-B437-4259-9159-E8E09C79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F04BF-59D6-42F1-B346-7CF4DC66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D74FD-FFA9-492F-BA7B-30EE0F9F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B2B4-3140-428A-B3A6-29C561C8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5B417-BCE1-4D58-9D9D-480326D1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06C-1904-4768-8301-974DFF1E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DDF7-170D-4612-80A3-F5E47A67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1EA3F-94EB-42BF-A1BC-5A106372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431D6-AE10-47E2-A1F5-611889AD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382D-C044-49FE-81D5-59C6605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7FD06-2E8B-4168-AD31-478566A3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F731A-48A8-4340-9F78-C9BC8A41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22091-928F-4B1B-BD1F-9515B8E6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831B6-7FBB-4BE5-9B2D-554F348E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98607-5133-430A-ABFC-964589FC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42B1-20C2-43F2-9045-E57FDD7F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2B1-1129-4AF4-A0C6-E6606C7B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4D51C-3050-487E-BBFF-F88B3DE3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6F276-E8A3-44E8-A120-8298745C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248CE-1ED1-4054-8FE0-4F0800A4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2E26D-1A4E-4BC7-90E2-B353ABE7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B795A-F8EA-4E49-9DF7-C6B6DF79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083E-1F55-4828-ACCA-DC74F550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16D8E-0EF9-4D42-9812-53BC803D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00923-9655-4447-A769-D3A59701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7A8FA-AACB-47A6-B28A-6CFC0A8B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F906F-BFF2-4DF9-AC5B-1652870F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69C9-5918-4538-8FC6-C5375BBC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0FB5C-7C12-47C1-9356-F23C0E26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B92EC-6E10-41D4-8159-0D86F3D6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9DA2E-2EAD-4ED7-9AF3-9D792790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68EB4-39EE-4A16-8D3D-5286116F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586E9-4737-4E29-BE38-5AA72B5B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687BF-0A04-4CA8-B66C-49544675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EFF46-6932-4C5C-8E23-A58F86DF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30811-A726-460D-9DB2-177DC45E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3251C-5911-4F2A-8972-633D0159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2F22E-00E8-4D90-859C-0FB583FC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439-F3D4-4025-9983-9AAB8DA9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62C49-042B-4646-937A-D98ABF0A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715AE-9493-4D51-B84E-658B3143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1F4CA-3B23-4298-AAC3-119026EE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17C27-28F0-4429-958A-DB236F4F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093A3-02C3-4E42-B92B-3E565AD4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D624B-1CDA-43BD-9C95-771C0C8B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505BE-F516-4F8B-AC79-66A8B626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B112E-0296-4209-9DF5-54EEEEB5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FEBCF-59E9-427F-ACB6-C451A45D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32BF3-51C8-4FE6-AE43-1A296BB0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4CD-C45F-49CE-BD5E-419979D9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3F6C1-AC67-4D07-B9AF-D4745B6B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63150-0E57-4147-9A7C-88029877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CDE8C-5B96-46F1-8701-F6386B05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E7D2E-3E1E-478D-B0D2-9012BFC8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26FEC-C0C3-4B8D-B3CA-4D1D3016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14AB0-6FCE-45BE-BE0D-A9B0194F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4D9A9-FB4C-4E93-94A5-E882B93E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D36F0-A981-419D-A6D9-599B3DB9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FBFA1-597C-440A-8C5F-1E70122D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CAAC6-00FD-48D6-991D-7C437FCC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C03-54B0-431C-8508-50C87FB1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75CA0-5A27-4A3E-A439-7D10C69B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B3246-8C34-4EF9-ADC6-F16E26FF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0E801-E7BB-4AA8-8E40-05A12BB3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5FB1E-DF58-47C0-94B2-4790A0D5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357B8-76D4-4F78-B477-9171374A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E64F2-7561-4746-8B9A-DB04EA35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A4653-D066-465A-BC8F-2BD92F2B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36488-1A22-4390-ABF8-889B99A5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1D7E6-430A-43F3-A711-2481F7CB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49835-F1E0-4A4F-B4D2-2AB52FEF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7161-FBA8-4126-A3C5-047FD841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84065-3429-4CBD-8AC4-E2157ACC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80FC6-BEE2-44A7-A71C-47BF63F4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ACAD8-728A-47C4-888E-7E06BF8A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97B83-2E59-46BC-A323-8C779670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045C3-8A89-4FF9-8A10-D261848C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7689D-A5BE-492C-958D-79C2898E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53E40-12F7-4EE3-8E2D-3B5D5018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1B2C3-6C03-4911-844D-F3924FB1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8DE1F-A82C-405D-AB40-C60DE99E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36794-2B24-4DA6-BBC5-C2C5C6E9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0371-E7E6-4F1C-ADF8-1AD0E24CC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D998-9366-463B-9B8A-86ABC7C3A4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FB70-3D9A-4740-8CC7-FE44A4B205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9870-9E45-4429-88AA-87A4245465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B917-30F0-490D-98A1-7FF47E4C9D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129E-319A-4EE0-8460-7CB83B328D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E229-155C-4762-8AD6-07D0BC27C9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E40A-4F77-4ED2-813F-B89F9A9488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B23D-BC8F-47DF-A283-79C59C17B6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504C-2B98-4FD3-9252-091B6D2C78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DABE-7E68-4C61-B9B9-28633FFCC5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9830-9425-4B8D-A6BF-FCD651DED4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425D-9D45-4A99-8344-DBF408730A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21EF-D84D-46F2-9CFB-2000F79776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0D98-8132-45B0-959E-4C5172CB3F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6C08-D0A3-44E5-8F14-B481C987CE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0EF7-9EB0-4A2E-A6CB-90C13B247C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F597-581D-443D-99E0-6BD94EC978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8907-A135-4925-84DA-A79C8DD5AB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5829-58B9-4C7C-9604-1241DE9863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6B60-CC67-45C5-9DD9-EA0E83AA22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A268-DF48-4123-BDDC-6F5DB961C7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93EE-A33B-402F-B177-73E5B24C94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055A-C312-4632-8F3A-500003D8A8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3053-612C-4683-A21E-24F6182B59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E993-E64E-49A7-AF0B-C2604E2C44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F4FF-963E-4E8F-9C64-F89E8D0B29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08A0-3923-441D-8C19-539030083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2E22-CA43-4807-A585-C26AA0463B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CB17-C0F2-4B0A-A638-6FAF1B5EEA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695E-F834-4301-AD46-351F61568D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06A2-4E0D-4C2B-B9A4-6B839432FE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D43B-927A-4802-9EAE-66BA35CAF7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526F-BA52-4FFB-B98E-B93CE74036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3AED-0967-477B-8A41-C021201995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3F20-9EE0-48E3-9F32-1992C19D64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EAB0-847A-4A52-A0E4-6FF59BF112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9991-CDD2-4EA1-8DFD-645E007BC6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0FBB-F3A3-450A-826F-56F7CA75C1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CB4E-1438-42E2-8DBF-D265387CE7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276640" y="3067200"/>
            <a:ext cx="45907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172360" cy="6000840"/>
          </a:xfrm>
          <a:prstGeom prst="rect">
            <a:avLst/>
          </a:prstGeom>
          <a:ln w="0">
            <a:noFill/>
          </a:ln>
        </p:spPr>
      </p:pic>
      <p:sp>
        <p:nvSpPr>
          <p:cNvPr id="1049" name="矩形 2"/>
          <p:cNvSpPr/>
          <p:nvPr/>
        </p:nvSpPr>
        <p:spPr>
          <a:xfrm>
            <a:off x="1189080" y="4929120"/>
            <a:ext cx="121428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3"/>
          <p:cNvSpPr/>
          <p:nvPr/>
        </p:nvSpPr>
        <p:spPr>
          <a:xfrm>
            <a:off x="4071960" y="4929120"/>
            <a:ext cx="121428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4"/>
          <p:cNvSpPr/>
          <p:nvPr/>
        </p:nvSpPr>
        <p:spPr>
          <a:xfrm>
            <a:off x="6572160" y="4929120"/>
            <a:ext cx="121464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5"/>
          <p:cNvSpPr/>
          <p:nvPr/>
        </p:nvSpPr>
        <p:spPr>
          <a:xfrm>
            <a:off x="1214280" y="5357880"/>
            <a:ext cx="2928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6"/>
          <p:cNvSpPr/>
          <p:nvPr/>
        </p:nvSpPr>
        <p:spPr>
          <a:xfrm>
            <a:off x="6654960" y="5394240"/>
            <a:ext cx="71424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7"/>
          <p:cNvSpPr/>
          <p:nvPr/>
        </p:nvSpPr>
        <p:spPr>
          <a:xfrm>
            <a:off x="1089000" y="5869080"/>
            <a:ext cx="12146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8"/>
          <p:cNvSpPr/>
          <p:nvPr/>
        </p:nvSpPr>
        <p:spPr>
          <a:xfrm>
            <a:off x="4060800" y="5869080"/>
            <a:ext cx="12146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9"/>
          <p:cNvSpPr/>
          <p:nvPr/>
        </p:nvSpPr>
        <p:spPr>
          <a:xfrm>
            <a:off x="6572160" y="5857920"/>
            <a:ext cx="85752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10"/>
          <p:cNvSpPr/>
          <p:nvPr/>
        </p:nvSpPr>
        <p:spPr>
          <a:xfrm>
            <a:off x="1346040" y="6321600"/>
            <a:ext cx="121464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11"/>
          <p:cNvSpPr/>
          <p:nvPr/>
        </p:nvSpPr>
        <p:spPr>
          <a:xfrm>
            <a:off x="4286160" y="6335640"/>
            <a:ext cx="85752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80960" y="833400"/>
            <a:ext cx="81820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66560" y="1038240"/>
            <a:ext cx="8210880" cy="478152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928800" y="44290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928800" y="485784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4"/>
          <p:cNvSpPr/>
          <p:nvPr/>
        </p:nvSpPr>
        <p:spPr>
          <a:xfrm>
            <a:off x="928800" y="528624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485640" y="824040"/>
            <a:ext cx="8172720" cy="520992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928800" y="8571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928800" y="17859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4"/>
          <p:cNvSpPr/>
          <p:nvPr/>
        </p:nvSpPr>
        <p:spPr>
          <a:xfrm>
            <a:off x="928800" y="27147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5"/>
          <p:cNvSpPr/>
          <p:nvPr/>
        </p:nvSpPr>
        <p:spPr>
          <a:xfrm>
            <a:off x="928800" y="32148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"/>
          <p:cNvSpPr/>
          <p:nvPr/>
        </p:nvSpPr>
        <p:spPr>
          <a:xfrm>
            <a:off x="928800" y="414324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7"/>
          <p:cNvSpPr/>
          <p:nvPr/>
        </p:nvSpPr>
        <p:spPr>
          <a:xfrm>
            <a:off x="928800" y="464328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8"/>
          <p:cNvSpPr/>
          <p:nvPr/>
        </p:nvSpPr>
        <p:spPr>
          <a:xfrm>
            <a:off x="857160" y="51436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419040" y="1057320"/>
            <a:ext cx="83059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8258400" cy="23623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2"/>
          <a:stretch/>
        </p:blipFill>
        <p:spPr>
          <a:xfrm>
            <a:off x="428760" y="3143160"/>
            <a:ext cx="80294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428760" y="1495440"/>
            <a:ext cx="8286480" cy="386712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1143000" y="2928960"/>
            <a:ext cx="5786280" cy="407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1000080" y="4357800"/>
            <a:ext cx="7643880" cy="39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928800" y="4857840"/>
            <a:ext cx="85392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476280" y="1766880"/>
            <a:ext cx="8191440" cy="3324240"/>
          </a:xfrm>
          <a:prstGeom prst="rect">
            <a:avLst/>
          </a:prstGeom>
          <a:ln w="0">
            <a:noFill/>
          </a:ln>
        </p:spPr>
      </p:pic>
      <p:sp>
        <p:nvSpPr>
          <p:cNvPr id="1044" name="矩形 2"/>
          <p:cNvSpPr/>
          <p:nvPr/>
        </p:nvSpPr>
        <p:spPr>
          <a:xfrm>
            <a:off x="1154160" y="2678040"/>
            <a:ext cx="7143840" cy="408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3"/>
          <p:cNvSpPr/>
          <p:nvPr/>
        </p:nvSpPr>
        <p:spPr>
          <a:xfrm>
            <a:off x="1203480" y="3608280"/>
            <a:ext cx="928440" cy="409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4"/>
          <p:cNvSpPr/>
          <p:nvPr/>
        </p:nvSpPr>
        <p:spPr>
          <a:xfrm>
            <a:off x="1285920" y="4572000"/>
            <a:ext cx="4336920" cy="407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15328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26:1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